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B35F-B212-46C9-B3B1-4391BDF54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A3C2-811E-4307-BA99-9BFE94520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D068-C52E-4044-A334-1C1B4200C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1F06-DDDE-4962-BB35-3ECBB6BEC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E472-E9B1-4003-9127-BDF901A5E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5DF4-5127-4C65-B618-4FC83938A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15C2-5300-4FD7-8CD7-4FB552540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9CB3-2099-4D10-9B80-5DA03DE36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20B8-9EA3-4CB5-B302-F5968FF7D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36CD-4B2D-4585-8192-87B2DB85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AE79-BC8A-44C9-B560-63001ECF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97F9-43BF-45E8-91AC-06F4D3EB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115E6-7B65-42A4-B7F9-7044BC3DC26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429000"/>
            <a:ext cx="809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33cc"/>
                </a:solidFill>
                <a:latin typeface="Times New Roman"/>
              </a:rPr>
              <a:t>First  Aid Right And Wro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364480" y="2057400"/>
            <a:ext cx="386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Integrating skil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30760" y="304920"/>
            <a:ext cx="8626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ad the following descriptions of accidents on page 14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 decide what the  rescuers did wro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28600" y="1523880"/>
          <a:ext cx="8381520" cy="4952880"/>
        </p:xfrm>
        <a:graphic>
          <a:graphicData uri="http://schemas.openxmlformats.org/drawingml/2006/table">
            <a:tbl>
              <a:tblPr/>
              <a:tblGrid>
                <a:gridCol w="4190400"/>
                <a:gridCol w="419112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tu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at they did wro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 acci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ating acci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tel fi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isoning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12360" y="304920"/>
            <a:ext cx="751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 what you have learned about first aid to li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they should have d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80880" y="1447920"/>
          <a:ext cx="8381880" cy="5181120"/>
        </p:xfrm>
        <a:graphic>
          <a:graphicData uri="http://schemas.openxmlformats.org/drawingml/2006/table">
            <a:tbl>
              <a:tblPr/>
              <a:tblGrid>
                <a:gridCol w="4190760"/>
                <a:gridCol w="4191120"/>
              </a:tblGrid>
              <a:tr h="12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tu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at they should have d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 acci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ating acci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tel fi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iso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973240" y="1295280"/>
            <a:ext cx="195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cc"/>
                </a:solidFill>
                <a:latin typeface="Times New Roman"/>
              </a:rPr>
              <a:t>Wri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96280" y="2743200"/>
            <a:ext cx="8599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oose one of the situations in the reading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 a description. In the new descriptio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rescuer should give first aid in the right 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7T00:59:38Z</dcterms:created>
  <dc:creator>kkasfjoirfe</dc:creator>
  <dc:description/>
  <dc:language>en-US</dc:language>
  <cp:lastModifiedBy>kkasfjoirfe</cp:lastModifiedBy>
  <dcterms:modified xsi:type="dcterms:W3CDTF">2004-07-18T03:02:30Z</dcterms:modified>
  <cp:revision>5</cp:revision>
  <dc:subject/>
  <dc:title>PowerPoint 演示文稿</dc:title>
</cp:coreProperties>
</file>